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B24-4854-4D35-845A-1D87781BB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us optimisons la performance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’ensemble des fonctions d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ntreprises manufacturières, 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évisant leurs offres de produi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ette optimisation 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incipalement mesurable par 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cteurs 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-Une meilleure perception par 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rché des produits de nos clien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- Un rehaussement du nivea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ologique, productivité et de l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Qualité des produits fabriqué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-Augmentation des marg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énéficiair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ous recherchons à l’échel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ndiale les technologies d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abrication les plus productive ains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que les matériaux les pl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usceptibles de conférer un avant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ologique commercial 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inancier à nos clien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5A6-FBB1-41C0-ADB9-BDC78E56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AAF-EF13-43E7-B41F-2E018A2B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B05-1CB2-4810-A06F-94D77892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69EB-671B-47C6-BD93-694D45C1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3134-834F-4F94-A7A8-FBB9DA29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AD31-880A-43AE-A4C5-1E61E24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30B6-F69C-46EF-A90A-0C301B98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DF8C-C0AD-4683-8B96-73CE8E73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EB9B-5BEE-4B8E-A44A-AD1A7C31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93AD-1AE7-4D7A-88C7-F1013D31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0C38-9179-4834-8191-4F02CDE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A9A-20D0-4E10-9DD7-E58DA74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8F7D-3B2E-46E5-843B-CA4304DC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0BE4-179C-4081-B359-FBA9D96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F275-146F-4115-A644-D996C00F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04AF-5C2F-4E14-A8BE-D81FF288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C71F-B1DB-4009-B3CD-8DC1890B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80C-B3D8-4D01-B439-3005868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6F4-F94F-4D1F-A905-CF905BBF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8A9-8E2B-4AB1-BDE2-A816F7A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DDD-E95D-4018-89D9-26F2A6F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2D1-B568-4FC5-8111-5321EA8C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AB9-5340-46C4-8E7A-1A6004A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C04-88FA-4654-870B-FEDC958F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4EF2-830A-4250-946F-44E8A6D6FB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2841480" cy="4111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80360" y="5711760"/>
            <a:ext cx="1763640" cy="11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CCAE-9555-4B33-BF6B-EF73D271B4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02440" y="4944960"/>
            <a:ext cx="2941560" cy="1913040"/>
          </a:xfrm>
          <a:prstGeom prst="rect">
            <a:avLst/>
          </a:prstGeom>
          <a:ln w="0">
            <a:noFill/>
          </a:ln>
        </p:spPr>
      </p:pic>
      <p:sp>
        <p:nvSpPr>
          <p:cNvPr id="105" name="Sous-titre 2"/>
          <p:cNvSpPr/>
          <p:nvPr/>
        </p:nvSpPr>
        <p:spPr>
          <a:xfrm>
            <a:off x="826920" y="1557360"/>
            <a:ext cx="831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000000"/>
                </a:solidFill>
                <a:latin typeface="Arial"/>
              </a:rPr>
              <a:t>GES 855 – Étude de Ca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900" spc="-1" strike="noStrike">
                <a:solidFill>
                  <a:srgbClr val="000000"/>
                </a:solidFill>
                <a:latin typeface="Arial"/>
              </a:rPr>
              <a:t>Mise en Place d’un processus de veille pour Xse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0680" y="4599000"/>
            <a:ext cx="6818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bler le plan d’affa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’entreprise dès le dé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valuer les ressources disponi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s l’entreprise pour la v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ifier l’architecture d’un wik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nt de le cré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Recommand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herche d’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urer des règles pour le wiki, en collaboration avec tous les utilis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tre à jour régulièrement le wiki pour conserver son efficacité opti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r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C:\Documents and Settings\Manuelle\Local Settings\Temporary Internet Files\Content.IE5\BVOV1L1B\MCj04337970000[1].png"/>
          <p:cNvPicPr/>
          <p:nvPr/>
        </p:nvPicPr>
        <p:blipFill>
          <a:blip r:embed="rId2"/>
          <a:stretch/>
        </p:blipFill>
        <p:spPr>
          <a:xfrm>
            <a:off x="3000240" y="1643040"/>
            <a:ext cx="3786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Présentation du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ntreprise tactique et inventive qui util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design indust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stratégies de développement d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echnologies avancés de fabr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mme outils de création de val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5400000">
            <a:off x="281520" y="3971160"/>
            <a:ext cx="1374840" cy="173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76360" y="5002200"/>
            <a:ext cx="2916360" cy="1666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 rot="5400000">
            <a:off x="4162320" y="4025520"/>
            <a:ext cx="1654200" cy="204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435640" y="5373720"/>
            <a:ext cx="1369800" cy="1295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423200" y="5013360"/>
            <a:ext cx="1720800" cy="18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124000" y="4076640"/>
            <a:ext cx="1621080" cy="144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 rot="5400000">
            <a:off x="6699960" y="3893040"/>
            <a:ext cx="1082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Une de leur plus belles créations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721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Analyse des besoins du cl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Historiquement: conceptions confinées à un seul domaine de l’industrie (ex: sp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Au fil du temps: constatation que les innovations dans un domaine sont souvent adaptables à d’aut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ur veille aujourd’hui: surtout « ad hoc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urs champs d’intérêt: tous les domai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atériaux utilisés: tous, sans exclu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Analyse des besoins du client suit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1752480"/>
            <a:ext cx="647712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cccc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Un de leurs domaines d’intérê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courant : les emballages ali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endances du marc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mandes du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rég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technologies émer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s besoins des consom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Être à l’affût des particularité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géograph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tre mandat: emballages alimentai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ant donné les besoins de Xseed, nous avons décidé d’établir un plan de veille stratégique axé s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ille Commer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ille Concurrent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eille Techn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avons déployé une plate-forme de veille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ous avons proposé des méthodes d’analyse qui permettront de transposer ce plan de veille à d’autres dom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156" r="1908" b="4395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Place à la plate-forme de veill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Pourquoi un Wiki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 plus en plus répan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aractère très dynamique parfait pour une entreprise de type star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a plupart sont gratu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Une plate-forme légère et modu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Pourquoi ClearWiki?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Ne requière pas de serveur d’hébergement, éditeur WYSIWYG, possibilité d’attacher des fichiers, open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Défis rencontré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r un axe stratégique du plan d’affaire de l’entreprise (orientation emballage alimentai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ver le site wiki le plus appropri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r des méthodes d’analyse adaptées à chaque type de veil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0:57:49Z</dcterms:created>
  <dc:creator>Manuelle Gagnon</dc:creator>
  <dc:description/>
  <dc:language>en-US</dc:language>
  <cp:lastModifiedBy>Éric</cp:lastModifiedBy>
  <dcterms:modified xsi:type="dcterms:W3CDTF">2009-09-28T14:33:34Z</dcterms:modified>
  <cp:revision>85</cp:revision>
  <dc:subject/>
  <dc:title>La Boutique en ligne</dc:title>
</cp:coreProperties>
</file>